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608-4E55-4C51-BF49-2F0A171C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D99-F14E-4C29-8482-71197872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690-C1B8-4A6D-A528-3E3D52E7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70C9-EC99-42B7-A372-738678D1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3503-2E10-47FE-954F-77B2CD86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D6C-2055-4D85-9D0D-FF3F780A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F4D-08AF-4777-8E77-452AE1D5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709-B9FC-40A7-BA29-0E38AFA8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D3C-B473-4843-84B0-B0082EAF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73F-9FCF-47A3-B935-1C568E7E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DB1-A04E-426D-A6DA-281AA70E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3DE-1B6D-44FE-951B-5E0BEBFD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A5E4-B1E5-45A9-A5C8-F451320FC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baz.com/prodhuge.asp" TargetMode="External"/><Relationship Id="rId2" Type="http://schemas.openxmlformats.org/officeDocument/2006/relationships/hyperlink" Target="http://www.gobaz.com/prodhuge.asp" TargetMode="External"/><Relationship Id="rId3" Type="http://schemas.openxmlformats.org/officeDocument/2006/relationships/hyperlink" Target="http://www.gobaz.com/prodhuge.asp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baz.com/prodhuge.asp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nvest in stock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ck Certifi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ownership in a Corpora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Include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of th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hat is associated with th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hould be numbered, so that the company can record the number of the certificate and the number of shares owned by a particula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of the Stockholder (owner of the certific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Shares that the stock certificate represents (it could say any number) should be clearly set fo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ture of the President and the Treasurer or Secretary with their name printed underneath their signature, together with their title (President or Secretary or Treasu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1262160"/>
            <a:ext cx="60962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053640" cy="59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96080" y="152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467120" y="53352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57200"/>
            <a:ext cx="4572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28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/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4572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2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# for corporate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457200"/>
            <a:ext cx="7617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6491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123720" y="58672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553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retary Treas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6781320" y="579096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Stock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028840" y="533520"/>
            <a:ext cx="7621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458200" y="6858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952880" y="838080"/>
            <a:ext cx="281952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990720" y="457200"/>
            <a:ext cx="7162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6477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343400"/>
            <a:ext cx="22860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85960" y="1327320"/>
          <a:ext cx="5572080" cy="2651040"/>
        </p:xfrm>
        <a:graphic>
          <a:graphicData uri="http://schemas.openxmlformats.org/drawingml/2006/table">
            <a:tbl>
              <a:tblPr/>
              <a:tblGrid>
                <a:gridCol w="5572080"/>
              </a:tblGrid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795760" y="1336680"/>
          <a:ext cx="3552480" cy="4205160"/>
        </p:xfrm>
        <a:graphic>
          <a:graphicData uri="http://schemas.openxmlformats.org/drawingml/2006/table">
            <a:tbl>
              <a:tblPr/>
              <a:tblGrid>
                <a:gridCol w="3552480"/>
              </a:tblGrid>
              <a:tr h="448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en-US" sz="25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" descr="click here to close this windo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304920"/>
            <a:ext cx="6019560" cy="6019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click here to close this window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76840" y="3178080"/>
            <a:ext cx="14284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ical 1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ury Ship-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Vas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471920" y="-23814000"/>
            <a:ext cx="10001160" cy="6534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4319640" y="-23661720"/>
            <a:ext cx="10001160" cy="6534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3781440" cy="5038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8320" y="0"/>
            <a:ext cx="3943080" cy="26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867280" y="26668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038480" y="3343320"/>
            <a:ext cx="22258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2:54:57Z</dcterms:created>
  <dc:creator>Darien Public Schools</dc:creator>
  <dc:description/>
  <dc:language>en-US</dc:language>
  <cp:lastModifiedBy>Darien Public Schools</cp:lastModifiedBy>
  <dcterms:modified xsi:type="dcterms:W3CDTF">2007-08-31T11:39:45Z</dcterms:modified>
  <cp:revision>6</cp:revision>
  <dc:subject/>
  <dc:title>Slide 1</dc:title>
</cp:coreProperties>
</file>